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A7D9A-3A53-4FB8-97E4-A80AF18AE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27" name="PlaceHolder 2"/>
          <p:cNvSpPr>
            <a:spLocks noGrp="1"/>
          </p:cNvSpPr>
          <p:nvPr>
            <p:ph/>
          </p:nvPr>
        </p:nvSpPr>
        <p:spPr>
          <a:xfrm>
            <a:off x="990720" y="160020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A8323-BDE9-42B4-BEB5-37CF807A4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0"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BDFF8-3B1E-472F-AF38-8FED15B7D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5" name="PlaceHolder 2"/>
          <p:cNvSpPr>
            <a:spLocks noGrp="1"/>
          </p:cNvSpPr>
          <p:nvPr>
            <p:ph/>
          </p:nvPr>
        </p:nvSpPr>
        <p:spPr>
          <a:xfrm>
            <a:off x="9907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4639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371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9907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4639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371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69E9A-EBF6-4538-A216-D3F9E0820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494E8-7425-4891-BFC3-6DFB968EDA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47" name="PlaceHolder 2"/>
          <p:cNvSpPr>
            <a:spLocks noGrp="1"/>
          </p:cNvSpPr>
          <p:nvPr>
            <p:ph type="subTitle"/>
          </p:nvPr>
        </p:nvSpPr>
        <p:spPr>
          <a:xfrm>
            <a:off x="990720" y="1600200"/>
            <a:ext cx="73152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8650A-E8C8-4A8A-81B3-F57781C4D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49"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C844C1-4196-4FCA-9805-60997945F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51"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65AFC-7B9E-4A59-9D51-39C589F35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FD049-C71A-41A2-A4D2-5D4535883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0"/>
            <a:ext cx="8229600" cy="4593600"/>
          </a:xfrm>
          <a:prstGeom prst="rect">
            <a:avLst/>
          </a:prstGeom>
          <a:noFill/>
          <a:ln w="0">
            <a:noFill/>
          </a:ln>
        </p:spPr>
        <p:txBody>
          <a:bodyPr lIns="0" rIns="0" tIns="0" bIns="0" anchor="ctr">
            <a:noAutofit/>
          </a:bodyPr>
          <a:p>
            <a:endParaRPr b="0" lang="en-US" sz="28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1F5D2-6B30-4DD3-8FC5-07E17A77A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56"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C4C67-EEAA-4CE8-B524-55CB04B44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 name="PlaceHolder 2"/>
          <p:cNvSpPr>
            <a:spLocks noGrp="1"/>
          </p:cNvSpPr>
          <p:nvPr>
            <p:ph type="subTitle"/>
          </p:nvPr>
        </p:nvSpPr>
        <p:spPr>
          <a:xfrm>
            <a:off x="990720" y="1600200"/>
            <a:ext cx="73152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5B08D-7493-4698-9AB7-1D976375C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0"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459C1-CBC6-47B8-9403-E48699939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4"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38E7F-C221-4A48-80DF-07F4CD596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8" name="PlaceHolder 2"/>
          <p:cNvSpPr>
            <a:spLocks noGrp="1"/>
          </p:cNvSpPr>
          <p:nvPr>
            <p:ph/>
          </p:nvPr>
        </p:nvSpPr>
        <p:spPr>
          <a:xfrm>
            <a:off x="990720" y="160020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126BB-1D51-4DDE-9234-F09E1E4EE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71"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F6D120-AF99-4AC5-B8E9-CA8179020A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76" name="PlaceHolder 2"/>
          <p:cNvSpPr>
            <a:spLocks noGrp="1"/>
          </p:cNvSpPr>
          <p:nvPr>
            <p:ph/>
          </p:nvPr>
        </p:nvSpPr>
        <p:spPr>
          <a:xfrm>
            <a:off x="9907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4639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371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9907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4639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371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69EA85-D555-4478-9EEB-F85CF4BEB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8"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40149-9671-4A95-8AFD-118B00AB7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10"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FB8C8-8730-456E-985A-0CA894AD9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65ED4-E8D7-412E-9589-E0DF2EFB2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593600"/>
          </a:xfrm>
          <a:prstGeom prst="rect">
            <a:avLst/>
          </a:prstGeom>
          <a:noFill/>
          <a:ln w="0">
            <a:noFill/>
          </a:ln>
        </p:spPr>
        <p:txBody>
          <a:bodyPr lIns="0" rIns="0" tIns="0" bIns="0" anchor="ctr">
            <a:noAutofit/>
          </a:bodyPr>
          <a:p>
            <a:endParaRPr b="0" lang="en-US" sz="28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2712B-37BB-444A-8582-AFA3E21E8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15"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666AF-EF98-40BD-89AF-954D270BB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19"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6C14E-F6F4-4A09-8811-EB86F48A8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23"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A9932-708A-4835-9A38-03B493A44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600200"/>
            <a:ext cx="73152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79D8-54C9-40ED-A344-22CEC58471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Click to edit the title text format</a:t>
            </a:r>
            <a:endParaRPr b="0" lang="en-US" sz="4000" spc="-1" strike="noStrike">
              <a:solidFill>
                <a:srgbClr val="99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3048120"/>
            <a:ext cx="6019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Click to edit the title text format</a:t>
            </a:r>
            <a:endParaRPr b="0" lang="en-US" sz="4000" spc="-1" strike="noStrike">
              <a:solidFill>
                <a:srgbClr val="99cc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2EEB0-456D-43D8-8FF4-BD980113CC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143000" y="3032280"/>
            <a:ext cx="60199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855a"/>
                </a:solidFill>
                <a:latin typeface="Arial"/>
              </a:rPr>
              <a:t>Protestantism II</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Monergism</a:t>
            </a:r>
            <a:endParaRPr b="0" lang="en-US" sz="4000" spc="-1" strike="noStrike">
              <a:solidFill>
                <a:srgbClr val="99cc00"/>
              </a:solidFill>
              <a:latin typeface="Arial"/>
            </a:endParaRPr>
          </a:p>
        </p:txBody>
      </p:sp>
      <p:sp>
        <p:nvSpPr>
          <p:cNvPr id="10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believe that although humans have free will concerning civil righteousness, they cannot work spiritual righteousness without the Holy Spirit, since righteousness in the heart cannot be wrought in the absence of the Holy Spiri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Monergism</a:t>
            </a:r>
            <a:endParaRPr b="0" lang="en-US" sz="4000" spc="-1" strike="noStrike">
              <a:solidFill>
                <a:srgbClr val="99cc00"/>
              </a:solidFill>
              <a:latin typeface="Arial"/>
            </a:endParaRPr>
          </a:p>
        </p:txBody>
      </p:sp>
      <p:sp>
        <p:nvSpPr>
          <p:cNvPr id="10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ans believe that the elect are predestined to salvation and that Christians should be assured that they are among the predestine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they disagree with those that make predestination the source of salvation rather than Christ's suffering, death, and resurrec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Monergism</a:t>
            </a:r>
            <a:endParaRPr b="0" lang="en-US" sz="4000" spc="-1" strike="noStrike">
              <a:solidFill>
                <a:srgbClr val="99cc00"/>
              </a:solidFill>
              <a:latin typeface="Arial"/>
            </a:endParaRPr>
          </a:p>
        </p:txBody>
      </p:sp>
      <p:sp>
        <p:nvSpPr>
          <p:cNvPr id="10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some in Calvinism, Lutherans do not believe in a predestination to damnation. Instead, Lutherans teach damnation is a result of the unbeliever's rejection of the Holy Spir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Eucharist</a:t>
            </a:r>
            <a:endParaRPr b="0" lang="en-US" sz="4000" spc="-1" strike="noStrike">
              <a:solidFill>
                <a:srgbClr val="99cc00"/>
              </a:solidFill>
              <a:latin typeface="Arial"/>
            </a:endParaRPr>
          </a:p>
        </p:txBody>
      </p:sp>
      <p:sp>
        <p:nvSpPr>
          <p:cNvPr id="10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Lutherans use the term Eucharist to refer to Communion; however, others reject the term on the basis that the word Eucharist ("thanksgiving") puts the emphasis on the human response to the sacrament, which is contrary to the Lutheran emphasis on God's omnipotence and human powerlessnes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Eucharist</a:t>
            </a:r>
            <a:endParaRPr b="0" lang="en-US" sz="4000" spc="-1" strike="noStrike">
              <a:solidFill>
                <a:srgbClr val="99cc00"/>
              </a:solidFill>
              <a:latin typeface="Arial"/>
            </a:endParaRPr>
          </a:p>
        </p:txBody>
      </p:sp>
      <p:sp>
        <p:nvSpPr>
          <p:cNvPr id="10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ans believe that the Body and Blood of Christ are "truly and substantially present in, with and under the forms" of the consecrated bread and wine (the elements), so that communicants eat and drink both the elements and the true Body and Blood of Christ Himself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Eucharist</a:t>
            </a:r>
            <a:endParaRPr b="0" lang="en-US" sz="4000" spc="-1" strike="noStrike">
              <a:solidFill>
                <a:srgbClr val="99cc00"/>
              </a:solidFill>
              <a:latin typeface="Arial"/>
            </a:endParaRPr>
          </a:p>
        </p:txBody>
      </p:sp>
      <p:sp>
        <p:nvSpPr>
          <p:cNvPr id="11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ans use the terms "in, with and under the forms of [consecrated] bread and wine" and "sacramental union" to distinguish their understanding of the Lord's Supper from those of the Reformed and other tradi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Eucharist</a:t>
            </a:r>
            <a:endParaRPr b="0" lang="en-US" sz="4000" spc="-1" strike="noStrike">
              <a:solidFill>
                <a:srgbClr val="99cc00"/>
              </a:solidFill>
              <a:latin typeface="Arial"/>
            </a:endParaRPr>
          </a:p>
        </p:txBody>
      </p:sp>
      <p:sp>
        <p:nvSpPr>
          <p:cNvPr id="11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liberal Lutheran churches tend to practice open communion, inviting all who are baptized to participat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ervative Lutheran churches are more likely to practice closed communion (or "close communion"), restricting participation to those who are in doctrinal agreement with the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Eucharist</a:t>
            </a:r>
            <a:endParaRPr b="0" lang="en-US" sz="4000" spc="-1" strike="noStrike">
              <a:solidFill>
                <a:srgbClr val="99cc00"/>
              </a:solidFill>
              <a:latin typeface="Arial"/>
            </a:endParaRPr>
          </a:p>
        </p:txBody>
      </p:sp>
      <p:sp>
        <p:nvSpPr>
          <p:cNvPr id="11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might involve the formal declaration of "altar and pulpit fellowship", another term for Eucharistic sharing coupled with the acceptance of the ministrations of one another's clerg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Eucharist</a:t>
            </a:r>
            <a:endParaRPr b="0" lang="en-US" sz="4000" spc="-1" strike="noStrike">
              <a:solidFill>
                <a:srgbClr val="99cc00"/>
              </a:solidFill>
              <a:latin typeface="Arial"/>
            </a:endParaRPr>
          </a:p>
        </p:txBody>
      </p:sp>
      <p:sp>
        <p:nvSpPr>
          <p:cNvPr id="11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communion is a thoroughly modern practice, as most Lutheran bodies as late as the 20th century would often preclude their own members from partaking in communion, such as divorcees and men and women who lived together outside of marriage; this was a carryover from the church's roots in Catholicis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Origin</a:t>
            </a:r>
            <a:endParaRPr b="0" lang="en-US" sz="4000" spc="-1" strike="noStrike">
              <a:solidFill>
                <a:srgbClr val="99cc00"/>
              </a:solidFill>
              <a:latin typeface="Arial"/>
            </a:endParaRPr>
          </a:p>
        </p:txBody>
      </p:sp>
      <p:sp>
        <p:nvSpPr>
          <p:cNvPr id="11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ts today are the third largest Protestant group in the world. Their history can be traced back to the early days of the Protestant Reformation - specifically, the radical wing of the Reformation which was rejected by major Protestant leaders like Luther and Zwingl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Major Protestant Churches Today</a:t>
            </a:r>
            <a:endParaRPr b="0" lang="en-US" sz="4000" spc="-1" strike="noStrike">
              <a:solidFill>
                <a:srgbClr val="99cc00"/>
              </a:solidFill>
              <a:latin typeface="Arial"/>
            </a:endParaRPr>
          </a:p>
        </p:txBody>
      </p:sp>
      <p:sp>
        <p:nvSpPr>
          <p:cNvPr id="8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a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odi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Origin</a:t>
            </a:r>
            <a:endParaRPr b="0" lang="en-US" sz="4000" spc="-1" strike="noStrike">
              <a:solidFill>
                <a:srgbClr val="99cc00"/>
              </a:solidFill>
              <a:latin typeface="Arial"/>
            </a:endParaRPr>
          </a:p>
        </p:txBody>
      </p:sp>
      <p:sp>
        <p:nvSpPr>
          <p:cNvPr id="12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ts were originally nicknamed "Anabaptists," which means "re-baptists," because the baptism of mature church members rather than children is one of the original defining marks of this denomination - when they first appeared in the United States, this was a particularly radical position to tak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Origin</a:t>
            </a:r>
            <a:endParaRPr b="0" lang="en-US" sz="4000" spc="-1" strike="noStrike">
              <a:solidFill>
                <a:srgbClr val="99cc00"/>
              </a:solidFill>
              <a:latin typeface="Arial"/>
            </a:endParaRPr>
          </a:p>
        </p:txBody>
      </p:sp>
      <p:sp>
        <p:nvSpPr>
          <p:cNvPr id="12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ts number over 110 million worldwide in more than 170,000 congregations, and are considered the largest world communion of evangelical Protestants, with an estimated 22 million members in the North Americ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Origin</a:t>
            </a:r>
            <a:endParaRPr b="0" lang="en-US" sz="4000" spc="-1" strike="noStrike">
              <a:solidFill>
                <a:srgbClr val="99cc00"/>
              </a:solidFill>
              <a:latin typeface="Arial"/>
            </a:endParaRPr>
          </a:p>
        </p:txBody>
      </p:sp>
      <p:sp>
        <p:nvSpPr>
          <p:cNvPr id="12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large populations of Baptists also exist in Asia, Africa and Latin America, notably in India (2.4 million), Nigeria (2.5 million), Democratic Republic of the Congo (DRC) (1.9 million) and Brazil (1.7 mill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Origin</a:t>
            </a:r>
            <a:endParaRPr b="0" lang="en-US" sz="4000" spc="-1" strike="noStrike">
              <a:solidFill>
                <a:srgbClr val="99cc00"/>
              </a:solidFill>
              <a:latin typeface="Arial"/>
            </a:endParaRPr>
          </a:p>
        </p:txBody>
      </p:sp>
      <p:sp>
        <p:nvSpPr>
          <p:cNvPr id="12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rding to a poll in the 1990s, about one in five Christians in the United States claims to be a Baptist. U.S. Baptists are represented in more than fifty separate group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Origin</a:t>
            </a:r>
            <a:endParaRPr b="0" lang="en-US" sz="4000" spc="-1" strike="noStrike">
              <a:solidFill>
                <a:srgbClr val="99cc00"/>
              </a:solidFill>
              <a:latin typeface="Arial"/>
            </a:endParaRPr>
          </a:p>
        </p:txBody>
      </p:sp>
      <p:sp>
        <p:nvSpPr>
          <p:cNvPr id="12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nety-two percent of Baptists are found in five of those bod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uthern Baptist Convention (SB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Baptist Convention, USA, Inc. (NB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Baptist Convention of America, Inc. (NBC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erican Baptist Churches in the USA (AB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ptist Bible Fellowship International (BBF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Eternal Security</a:t>
            </a:r>
            <a:endParaRPr b="0" lang="en-US" sz="4000" spc="-1" strike="noStrike">
              <a:solidFill>
                <a:srgbClr val="99cc00"/>
              </a:solidFill>
              <a:latin typeface="Arial"/>
            </a:endParaRPr>
          </a:p>
        </p:txBody>
      </p:sp>
      <p:sp>
        <p:nvSpPr>
          <p:cNvPr id="13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ernal security is a controversial Christian doctrine which maintains that none who are truly saved can be condemned for their sins or finally fall away from the faith.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octrine appears in two different forms: (1) the traditional Calvinist doctrine found in the Reformed Christian confessions of faith, and (2) the non-traditional doctrine found in some Baptist and other evangelical church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Eternal Security</a:t>
            </a:r>
            <a:endParaRPr b="0" lang="en-US" sz="4000" spc="-1" strike="noStrike">
              <a:solidFill>
                <a:srgbClr val="99cc00"/>
              </a:solidFill>
              <a:latin typeface="Arial"/>
            </a:endParaRPr>
          </a:p>
        </p:txBody>
      </p:sp>
      <p:sp>
        <p:nvSpPr>
          <p:cNvPr id="13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sense, both can describe Christian believers as "once saved, always saved", but the two forms attach a different meaning to the word saved — namely, whether or not it necessarily involves sanctification, the process of becoming holy by rejecting s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Eternal Security</a:t>
            </a:r>
            <a:endParaRPr b="0" lang="en-US" sz="4000" spc="-1" strike="noStrike">
              <a:solidFill>
                <a:srgbClr val="99cc00"/>
              </a:solidFill>
              <a:latin typeface="Arial"/>
            </a:endParaRPr>
          </a:p>
        </p:txBody>
      </p:sp>
      <p:sp>
        <p:nvSpPr>
          <p:cNvPr id="13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ts hold the non-traditional view of eternal security and has been espoused by Charles Stanley, Norman Geisler, Zane C. Hodges, Bill Bright, and others. This view, like the traditional Calvinist view, emphasizes that people are saved purely by an act of divine grace that does not depend at all on the deeds of the individual, and for that reason, advocates insist that nothing the person can do can affect his or her salv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Eternal Security</a:t>
            </a:r>
            <a:endParaRPr b="0" lang="en-US" sz="4000" spc="-1" strike="noStrike">
              <a:solidFill>
                <a:srgbClr val="99cc00"/>
              </a:solidFill>
              <a:latin typeface="Arial"/>
            </a:endParaRPr>
          </a:p>
        </p:txBody>
      </p:sp>
      <p:sp>
        <p:nvSpPr>
          <p:cNvPr id="13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traditional doctrine views the person's character and life after receiving the gift of salvation as independent from the gift itself, which is the main point of differentiation from the traditional view, or, in other words, it asserts that justification (that is, being declared righteous before God on account of Christ) does not necessarily result in sanctification (that is, a progressively more righteous lif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Eternal Security</a:t>
            </a:r>
            <a:endParaRPr b="0" lang="en-US" sz="4000" spc="-1" strike="noStrike">
              <a:solidFill>
                <a:srgbClr val="99cc00"/>
              </a:solidFill>
              <a:latin typeface="Arial"/>
            </a:endParaRPr>
          </a:p>
        </p:txBody>
      </p:sp>
      <p:sp>
        <p:nvSpPr>
          <p:cNvPr id="13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octrine sees the work of salvation as wholly monergistic, which is to say that God alone performs it and man has no part in the process beyond receiving it, and therefore, proponents argue that man cannot undo what they believe God has done, even by denying the very existence of that Go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Origin</a:t>
            </a:r>
            <a:endParaRPr b="0" lang="en-US" sz="4000" spc="-1" strike="noStrike">
              <a:solidFill>
                <a:srgbClr val="99cc00"/>
              </a:solidFill>
              <a:latin typeface="Arial"/>
            </a:endParaRPr>
          </a:p>
        </p:txBody>
      </p:sp>
      <p:sp>
        <p:nvSpPr>
          <p:cNvPr id="8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anism is a major branch of Protestant Christianity that identifies with the teachings of the sixteenth-century German reformer Martin Luth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Eternal Security</a:t>
            </a:r>
            <a:endParaRPr b="0" lang="en-US" sz="4000" spc="-1" strike="noStrike">
              <a:solidFill>
                <a:srgbClr val="99cc00"/>
              </a:solidFill>
              <a:latin typeface="Arial"/>
            </a:endParaRPr>
          </a:p>
        </p:txBody>
      </p:sp>
      <p:sp>
        <p:nvSpPr>
          <p:cNvPr id="14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aditional doctrine teaches that a person is secure in salvation because he or she was predestined by God, whereas in the non-traditional view, a person is secure because he or she has believed the Gospel mess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Baptism</a:t>
            </a:r>
            <a:endParaRPr b="0" lang="en-US" sz="4000" spc="-1" strike="noStrike">
              <a:solidFill>
                <a:srgbClr val="99cc00"/>
              </a:solidFill>
              <a:latin typeface="Arial"/>
            </a:endParaRPr>
          </a:p>
        </p:txBody>
      </p:sp>
      <p:sp>
        <p:nvSpPr>
          <p:cNvPr id="14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m, commonly referred to as believer's baptism among Baptists and some other groups, is administered by full immersion in water after a person professes Jesus Christ to be Savi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Baptism</a:t>
            </a:r>
            <a:endParaRPr b="0" lang="en-US" sz="4000" spc="-1" strike="noStrike">
              <a:solidFill>
                <a:srgbClr val="99cc00"/>
              </a:solidFill>
              <a:latin typeface="Arial"/>
            </a:endParaRPr>
          </a:p>
        </p:txBody>
      </p:sp>
      <p:sp>
        <p:nvSpPr>
          <p:cNvPr id="14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een as an act of obedience to the example and command of Jesus given in the Great Commission (Matthew 28:19-20). It is an outward expression that is symbolic of the inward cleansing or remission of their sins that has already taken place. It is also a public identification of that person with Christianity and with that particular local chur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Baptism</a:t>
            </a:r>
            <a:endParaRPr b="0" lang="en-US" sz="4000" spc="-1" strike="noStrike">
              <a:solidFill>
                <a:srgbClr val="99cc00"/>
              </a:solidFill>
              <a:latin typeface="Arial"/>
            </a:endParaRPr>
          </a:p>
        </p:txBody>
      </p:sp>
      <p:sp>
        <p:nvSpPr>
          <p:cNvPr id="14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Protestants do not practice infant baptism because they believe parents cannot make a decision of salvation for an infant. Related to this doctrine is the disputed concept of an "age of accountability" when God determines that a mentally capable person is accountable for their sins and eligible for baptis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Baptism</a:t>
            </a:r>
            <a:endParaRPr b="0" lang="en-US" sz="4000" spc="-1" strike="noStrike">
              <a:solidFill>
                <a:srgbClr val="99cc00"/>
              </a:solidFill>
              <a:latin typeface="Arial"/>
            </a:endParaRPr>
          </a:p>
        </p:txBody>
      </p:sp>
      <p:sp>
        <p:nvSpPr>
          <p:cNvPr id="14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not a specific age, but is based on whether or not the person is mentally capable of knowing right from wro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Baptism</a:t>
            </a:r>
            <a:endParaRPr b="0" lang="en-US" sz="4000" spc="-1" strike="noStrike">
              <a:solidFill>
                <a:srgbClr val="99cc00"/>
              </a:solidFill>
              <a:latin typeface="Arial"/>
            </a:endParaRPr>
          </a:p>
        </p:txBody>
      </p:sp>
      <p:sp>
        <p:nvSpPr>
          <p:cNvPr id="15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us, a person with severe mental retardation may never reach this age, and therefore would not be held accountable for sins. The book of Isaiah mentions an age at which a child "shall know to refuse the evil, and choose the goo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Baptism</a:t>
            </a:r>
            <a:endParaRPr b="0" lang="en-US" sz="4000" spc="-1" strike="noStrike">
              <a:solidFill>
                <a:srgbClr val="99cc00"/>
              </a:solidFill>
              <a:latin typeface="Arial"/>
            </a:endParaRPr>
          </a:p>
        </p:txBody>
      </p:sp>
      <p:sp>
        <p:nvSpPr>
          <p:cNvPr id="15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ts insist upon baptism by full immersion, the mode Baptists believe Jesus received when he was baptized by John the Baptis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t theology considers that no saving grace is conveyed during baptism and that original sin is not washed away. Baptists have traditionally believed that baptism is a symbo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Baptism</a:t>
            </a:r>
            <a:endParaRPr b="0" lang="en-US" sz="4000" spc="-1" strike="noStrike">
              <a:solidFill>
                <a:srgbClr val="99cc00"/>
              </a:solidFill>
              <a:latin typeface="Arial"/>
            </a:endParaRPr>
          </a:p>
        </p:txBody>
      </p:sp>
      <p:sp>
        <p:nvSpPr>
          <p:cNvPr id="15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ndidate is lowered in water backwards while the baptizer (a pastor or any baptized believer under the authority of the local Baptist church) invokes the Trinitarian phrase found in Matthew 28:19 or other words concerning a profession of faith. Baptism by immersion is a representation of the death, burial, and resurrection of Jes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Baptism</a:t>
            </a:r>
            <a:endParaRPr b="0" lang="en-US" sz="4000" spc="-1" strike="noStrike">
              <a:solidFill>
                <a:srgbClr val="99cc00"/>
              </a:solidFill>
              <a:latin typeface="Arial"/>
            </a:endParaRPr>
          </a:p>
        </p:txBody>
      </p:sp>
      <p:sp>
        <p:nvSpPr>
          <p:cNvPr id="15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Baptist churches will recognize "age of accountability" baptisms by immersion performed in other Christian churches of "like faith and order," while others only recognize baptisms performed in Baptist church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Baptism</a:t>
            </a:r>
            <a:endParaRPr b="0" lang="en-US" sz="4000" spc="-1" strike="noStrike">
              <a:solidFill>
                <a:srgbClr val="99cc00"/>
              </a:solidFill>
              <a:latin typeface="Arial"/>
            </a:endParaRPr>
          </a:p>
        </p:txBody>
      </p:sp>
      <p:sp>
        <p:nvSpPr>
          <p:cNvPr id="15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ts are known for re-baptizing converts to their faith who were previously baptized as infants or small children. Because of this, the first Baptist congregations were dubbed "Anabaptists", which means re-baptiz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Origin</a:t>
            </a:r>
            <a:endParaRPr b="0" lang="en-US" sz="4000" spc="-1" strike="noStrike">
              <a:solidFill>
                <a:srgbClr val="99cc00"/>
              </a:solidFill>
              <a:latin typeface="Arial"/>
            </a:endParaRPr>
          </a:p>
        </p:txBody>
      </p:sp>
      <p:sp>
        <p:nvSpPr>
          <p:cNvPr id="8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the Reformed Churches, Lutherans have retained many of the sacramental understandings and liturgical practices of the pre-Reformation Church.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an theology differs considerably from Reformed theology in its understanding of divine grace and predestination to eternity after dea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Baptism</a:t>
            </a:r>
            <a:endParaRPr b="0" lang="en-US" sz="4000" spc="-1" strike="noStrike">
              <a:solidFill>
                <a:srgbClr val="99cc00"/>
              </a:solidFill>
              <a:latin typeface="Arial"/>
            </a:endParaRPr>
          </a:p>
        </p:txBody>
      </p:sp>
      <p:sp>
        <p:nvSpPr>
          <p:cNvPr id="16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t churches will not accep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or baptisms by any means other than immersion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ptisms performed as an infant or child too young to make a personal decision to accept Christ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ptisms performed by any means, including immersion, if administered by a church not considered to be of "like faith and order" by the Baptist congreg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Methodist Origin</a:t>
            </a:r>
            <a:endParaRPr b="0" lang="en-US" sz="4000" spc="-1" strike="noStrike">
              <a:solidFill>
                <a:srgbClr val="99cc00"/>
              </a:solidFill>
              <a:latin typeface="Arial"/>
            </a:endParaRPr>
          </a:p>
        </p:txBody>
      </p:sp>
      <p:sp>
        <p:nvSpPr>
          <p:cNvPr id="16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thodist movement traces its origin to the evangelistic teachings of John Wesley, who was an Anglican pries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riginated in 18th century Great Britain, and through vigorous missionary activity, spread throughout the British Empire, the United States, and beyon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Methodist Origin</a:t>
            </a:r>
            <a:endParaRPr b="0" lang="en-US" sz="4000" spc="-1" strike="noStrike">
              <a:solidFill>
                <a:srgbClr val="99cc00"/>
              </a:solidFill>
              <a:latin typeface="Arial"/>
            </a:endParaRPr>
          </a:p>
        </p:txBody>
      </p:sp>
      <p:sp>
        <p:nvSpPr>
          <p:cNvPr id="16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ginally it appealed especially to workers, agricultural workers, and slav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teriologically, most Methodists are Arminian or on rare occasions moderately Calvinist, emphasizing that Christ accomplished salvation for every human being, and that humans must exercise an act of the will to receive it (as opposed to the traditional Calvinist doctrine of monergis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Methodist Origin</a:t>
            </a:r>
            <a:endParaRPr b="0" lang="en-US" sz="4000" spc="-1" strike="noStrike">
              <a:solidFill>
                <a:srgbClr val="99cc00"/>
              </a:solidFill>
              <a:latin typeface="Arial"/>
            </a:endParaRPr>
          </a:p>
        </p:txBody>
      </p:sp>
      <p:sp>
        <p:nvSpPr>
          <p:cNvPr id="16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odism is traditionally a low (contemporary) church in liturgy (although this varies greatly between individual congregations; the Wesleys themselves greatly valued the Anglican liturgy and tradi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2006, Methodism claimed some seventy-five million members worldw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Methodist Beliefs</a:t>
            </a:r>
            <a:endParaRPr b="0" lang="en-US" sz="4000" spc="-1" strike="noStrike">
              <a:solidFill>
                <a:srgbClr val="99cc00"/>
              </a:solidFill>
              <a:latin typeface="Arial"/>
            </a:endParaRPr>
          </a:p>
        </p:txBody>
      </p:sp>
      <p:sp>
        <p:nvSpPr>
          <p:cNvPr id="16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 will (as opposed to pre-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nit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firm the Nicene Cree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m and Communion are the two recognized sacrament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ieves in the real presence of Jesus Christ in Communion (not simply a remembranc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dition is a source of authorit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believe in Monergis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Origin</a:t>
            </a:r>
            <a:endParaRPr b="0" lang="en-US" sz="4000" spc="-1" strike="noStrike">
              <a:solidFill>
                <a:srgbClr val="99cc00"/>
              </a:solidFill>
              <a:latin typeface="Arial"/>
            </a:endParaRPr>
          </a:p>
        </p:txBody>
      </p:sp>
      <p:sp>
        <p:nvSpPr>
          <p:cNvPr id="9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nearly 70 million Christians belong to Lutheran churches worldwide; furthermore, the world's 400 million Protestant Christians can trace their tradition, at least in part, back to Luther's reforming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vangelical-Lutheran church is or was the state church of several countries in northern Europ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a:t>
            </a:r>
            <a:endParaRPr b="0" lang="en-US" sz="4000" spc="-1" strike="noStrike">
              <a:solidFill>
                <a:srgbClr val="99cc00"/>
              </a:solidFill>
              <a:latin typeface="Arial"/>
            </a:endParaRPr>
          </a:p>
        </p:txBody>
      </p:sp>
      <p:sp>
        <p:nvSpPr>
          <p:cNvPr id="9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ant baptism is practic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m and Communion are the only two sacram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ief in Monergism – Salvation is by God's act al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Lutherans reject the term “Euchari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Monergism</a:t>
            </a:r>
            <a:endParaRPr b="0" lang="en-US" sz="4000" spc="-1" strike="noStrike">
              <a:solidFill>
                <a:srgbClr val="99cc00"/>
              </a:solidFill>
              <a:latin typeface="Arial"/>
            </a:endParaRPr>
          </a:p>
        </p:txBody>
      </p:sp>
      <p:sp>
        <p:nvSpPr>
          <p:cNvPr id="9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its simplest form Monergism states that salvation is all from God, as opposed to synergism, which, in its simplest form, insists that God performs some action(s) leaving salvation incomplete until man performs some action(s) to complete salv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Monergism</a:t>
            </a:r>
            <a:endParaRPr b="0" lang="en-US" sz="4000" spc="-1" strike="noStrike">
              <a:solidFill>
                <a:srgbClr val="99cc00"/>
              </a:solidFill>
              <a:latin typeface="Arial"/>
            </a:endParaRPr>
          </a:p>
        </p:txBody>
      </p:sp>
      <p:sp>
        <p:nvSpPr>
          <p:cNvPr id="9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Monergism, a sinner is given pardon for sin by the death of Jesus, acceptance with God by the imputed righteousness of Jesus, and faith in Jesus by the Holy Spiri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nctification then begins either instantaneously according to some, or as an ongoing progressive process according to others. But to remain consistent to Monergism, justification must be entirely of G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Monergism</a:t>
            </a:r>
            <a:endParaRPr b="0" lang="en-US" sz="4000" spc="-1" strike="noStrike">
              <a:solidFill>
                <a:srgbClr val="99cc00"/>
              </a:solidFill>
              <a:latin typeface="Arial"/>
            </a:endParaRPr>
          </a:p>
        </p:txBody>
      </p:sp>
      <p:sp>
        <p:nvSpPr>
          <p:cNvPr id="9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ans reject the doctrine that humans in their fallen state have a free will concerning spiritual matt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2:50Z</dcterms:created>
  <dc:creator>Nader Shehad</dc:creator>
  <dc:description/>
  <cp:keywords/>
  <dc:language>en-US</dc:language>
  <cp:lastModifiedBy> Fr. Younan</cp:lastModifiedBy>
  <dcterms:modified xsi:type="dcterms:W3CDTF">2008-03-14T17:50:18Z</dcterms:modified>
  <cp:revision>6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61033</vt:lpwstr>
  </property>
</Properties>
</file>